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68B-0C1C-475F-95CA-56BE5F69E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9AC-1CBF-447E-9002-3B7ED0FA5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116-A81C-47FA-B5B7-E1D117E9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D0A-2F1F-4E83-8299-950DDFE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296-4889-4E4E-AD89-79E69ADB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8B5-35E0-4A2F-A84C-7D067D5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E16-EEA5-446E-975E-4410D73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21D-B3E1-4B73-9BD0-F3D59BD7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295-837D-462E-B47B-02921D7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C36-9E58-4119-BCAA-A38C362F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B5E-AC15-40F5-9AEE-67DF19C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EDE-5B78-45C6-A347-A0A3808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249-0DA8-4CA1-91EF-16E45A8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98A-7991-43C9-9718-872F1E0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C68-3269-4443-BDFE-B86D475193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349280"/>
            <a:ext cx="86439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τερ, δοξασον σου το ὀνο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ω ἐβαπτισα ὑμας ὑδατι, αὐτος δε βαπτισει ὑμας ἐν πνευματι   ἁγ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εἰπεν αὐτῃ∙ Θυγατηρ, ἡ πιστις σου ἐσωσε σε∙ ὑπαγε εἰς    εἰρην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αὐτῳ ζωη ἠν, και ἡ ζωη ἠν υο φως των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λογος σαρξ ἐγεν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γυνη εἰπεν αὐτῳ∙ Οὐκ ἐχω ἀνδρα. λεγει αὐτῃ ὁ Ἰησους, Καλως εἰπας ὁτι Ἀνδρα οὐκ ἐχ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1349280"/>
            <a:ext cx="864396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οις ὁ Ἰησους∙ Εἰπον ὑμιν και οὐ πιστευετε∙ τα ἐργα ἁ ἐγω ποιω ἐν τῳ ὀνοματι του πατρος μου ταυτα μαρτυρει περι ἐ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ῳ Σιμων Πετρος∙ Κυριε, τίνι ἀκολουθησο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ῥηματα ζωης αἰωνιου ἐχ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arisees said to him, ‘Why do your disciples not eat appropriately with their hands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n the Lord neither is a wife separate from a husband nor a husband separate from a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ce to you (pl.) and peace from God our father and the Lord Jesus Christ our s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as he spoke through the mouth of his holy prophets, he will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98280" y="1157400"/>
            <a:ext cx="9072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Σιμων εἰπεν∙ Κυριε, δι’ ὁλης νυκτος ἠργαζομεθα και οὐκ ἐλαβομεν∙ ἐπι δε τῳ ῥηματι σου ἐργασομεθα πα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ἰδου ἠλθεν ἀνηρ ᾡ ὀνομα Ἰαιρος και οὑτος ἀρχων της συναγωγης ὑπηρχεν, και πεσων παρα τους ποδας Ἰησου παρεκαλει αὐτον εἰσελθειν εἰς τον οἰκο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ι ἀνηρ ἐστιν κεφαλη της γυναικος ὡς και ὁ Χριστος κεφαλη της ἐκκλησιας, αὐτος σωτηρ του σωμα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υλος ἀποστολος Χριστου Ἰησου κατ’ ἐξουσιαν θεου σωτηρος ἡμων και Χριστου Ἰησου της ἐλπιδος ἡμ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 τεκνα του θεου εἰσιν οὑτοι οἳ οὐκ ἐξ αἱματων οὐδε ἐκ θεληματος σαρκος οὐδ’ ἐκ θεληματος ἀνδρος ἀλλ’ ἐκ θεου γιν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δαιμονιον αὐτον ἐβαλλεν εἰς πυρ και εἰς ὑδ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42920" y="100008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ρχοντες εἰσηλθον λεγοντες∙ Που ἐστιν ὁ ἀρχων των Ἰουδαι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μεν γαρ αὐτου τον ἀστερα και ἠλθομεν προσκυνησα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νω ὁ Ἰησους ὁτι ἠκουσαν οἱ Φαρισαιοι ὁτι Ἰησους πλειονας μαθητας ποιει και βαπτιζει ἠ Ἰωανν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 love we will receiv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χομ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the hope of righteousness by the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hope and love remain, and we wish to hav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fe does not have authority over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her own body, but likewise the husband also does not have authority over his own body but the wif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at hour the disciples came to Jesus, saying, ‘Who therefore is greater in the kingdom of heaven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14240" y="1643040"/>
            <a:ext cx="7715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 3.32-35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ἐκάθη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as sitt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ὶ αὐτὸν ὄχλος, καὶ λέγουσιν αὐτῷ, Ἰδοὺ ἡ μήτηρ σου καὶ οἱ ἀδελφοί σου καὶ αἱ ἀδελφαί σου ἔξω ζητοῦσίν σε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ἀποκριθεὶ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swer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ῖς λέγει, Τίς ἐστιν ἡ μήτηρ μου καὶ οἱ ἀδελφοί μ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περιβλεψάμεν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ὺς περὶ αὐτὸν κύκλ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a circ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ημένου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eople sitting (acc.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έγει, Ἴδε ἡ μήτηρ μου καὶ οἱ ἀδελφοί μου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ὃς ἃ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ιήσ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late as i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ιει] τὸ θέλημα τοῦ θεοῦ, οὗτος ἀδελφός μου καὶ ἀδελφὴ καὶ μήτηρ ἐστ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46:34Z</dcterms:created>
  <dc:creator>Sarah</dc:creator>
  <dc:description/>
  <dc:language>en-US</dc:language>
  <cp:lastModifiedBy>Sarah</cp:lastModifiedBy>
  <dcterms:modified xsi:type="dcterms:W3CDTF">2009-07-09T18:40:53Z</dcterms:modified>
  <cp:revision>21</cp:revision>
  <dc:subject/>
  <dc:title>Slide 1</dc:title>
</cp:coreProperties>
</file>